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21664973-A08B-4C5B-86E7-D513259DC5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7  TTÜ             T.Tammet        loeng 9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E4F211CB-CF73-4DF7-A115-EE7F9269CD4B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9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91120" y="2504880"/>
            <a:ext cx="2438280" cy="244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91120" y="1820880"/>
            <a:ext cx="380880" cy="396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66880" y="3116160"/>
            <a:ext cx="533520" cy="5493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8992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33920" y="2971800"/>
            <a:ext cx="8539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6788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41400" y="4876920"/>
            <a:ext cx="7714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1760" y="3429000"/>
            <a:ext cx="91728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7360" y="1751040"/>
            <a:ext cx="460080" cy="536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200" y="432576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962520" y="3656160"/>
            <a:ext cx="15228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820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836280" y="1661760"/>
            <a:ext cx="1222200" cy="625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612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1751040"/>
            <a:ext cx="685800" cy="536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3198600"/>
            <a:ext cx="144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1588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172200" y="1598760"/>
            <a:ext cx="6336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7416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66040" y="2055960"/>
            <a:ext cx="143496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633560" y="3427200"/>
            <a:ext cx="153972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41400" y="4114800"/>
            <a:ext cx="343188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404960" y="3656160"/>
            <a:ext cx="1539720" cy="1374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341960" y="3884400"/>
            <a:ext cx="1374480" cy="2060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19560" y="4800600"/>
            <a:ext cx="6253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56200" y="5943600"/>
            <a:ext cx="6253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2504880"/>
            <a:ext cx="2438280" cy="244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1820880"/>
            <a:ext cx="380880" cy="396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666880" y="3116160"/>
            <a:ext cx="533520" cy="5493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596600" y="4797000"/>
            <a:ext cx="23508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76760" y="45687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735280" y="4572000"/>
            <a:ext cx="92376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282760" y="2282760"/>
            <a:ext cx="1611360" cy="100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016240" y="3429000"/>
            <a:ext cx="11588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654360" y="2282760"/>
            <a:ext cx="46368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640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910800" y="3882600"/>
            <a:ext cx="23508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72000" y="22827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29200" y="2511360"/>
            <a:ext cx="11430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240" y="4111200"/>
            <a:ext cx="115884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302240" y="2743200"/>
            <a:ext cx="11588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302600" y="4263840"/>
            <a:ext cx="138744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4360" y="2270160"/>
            <a:ext cx="2245320" cy="338040"/>
            <a:chOff x="1584360" y="2270160"/>
            <a:chExt cx="2245320" cy="338040"/>
          </a:xfrm>
        </p:grpSpPr>
        <p:sp>
          <p:nvSpPr>
            <p:cNvPr id="230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43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18280" y="2422440"/>
            <a:ext cx="1110240" cy="338040"/>
            <a:chOff x="5318280" y="2422440"/>
            <a:chExt cx="1110240" cy="338040"/>
          </a:xfrm>
        </p:grpSpPr>
        <p:sp>
          <p:nvSpPr>
            <p:cNvPr id="233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4780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79640" y="4632480"/>
            <a:ext cx="1718280" cy="338040"/>
            <a:chOff x="2879640" y="4632480"/>
            <a:chExt cx="1718280" cy="338040"/>
          </a:xfrm>
        </p:grpSpPr>
        <p:sp>
          <p:nvSpPr>
            <p:cNvPr id="236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220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4040" y="5040360"/>
            <a:ext cx="1896840" cy="307800"/>
            <a:chOff x="3794040" y="5040360"/>
            <a:chExt cx="1896840" cy="307800"/>
          </a:xfrm>
        </p:grpSpPr>
        <p:sp>
          <p:nvSpPr>
            <p:cNvPr id="239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1024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242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33520" y="2664000"/>
            <a:ext cx="2186640" cy="307800"/>
            <a:chOff x="1433520" y="2664000"/>
            <a:chExt cx="2186640" cy="307800"/>
          </a:xfrm>
        </p:grpSpPr>
        <p:sp>
          <p:nvSpPr>
            <p:cNvPr id="245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6988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Flash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6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7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191120" y="3725640"/>
            <a:ext cx="1066680" cy="10825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5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8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28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8080" y="603360"/>
            <a:ext cx="7769520" cy="312480"/>
            <a:chOff x="838080" y="603360"/>
            <a:chExt cx="7769520" cy="312480"/>
          </a:xfrm>
        </p:grpSpPr>
        <p:sp>
          <p:nvSpPr>
            <p:cNvPr id="293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605800" y="603360"/>
              <a:ext cx="180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96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300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304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308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312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316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320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324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328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32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36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2133720" y="3040200"/>
            <a:ext cx="122076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76520" y="3725640"/>
            <a:ext cx="228600" cy="15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905120" y="4868640"/>
            <a:ext cx="1218960" cy="54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64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72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77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2436840" y="1898280"/>
            <a:ext cx="2057400" cy="1536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90920" y="2736720"/>
            <a:ext cx="220968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393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96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401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406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411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416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421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3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439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59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78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 flipV="1">
            <a:off x="1903320" y="2734920"/>
            <a:ext cx="228600" cy="9270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436840" y="1135080"/>
            <a:ext cx="251460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91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V="1">
            <a:off x="2057400" y="3725640"/>
            <a:ext cx="3886200" cy="889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545160" y="2894040"/>
            <a:ext cx="9273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459200" y="3046320"/>
            <a:ext cx="165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12000" y="4417920"/>
            <a:ext cx="12319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0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514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oma struktuuriga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6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2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2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3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267080" y="4716000"/>
            <a:ext cx="243864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4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267080" y="4029120"/>
            <a:ext cx="381240" cy="396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743200" y="5325840"/>
            <a:ext cx="53352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5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6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6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4267080" y="4713120"/>
            <a:ext cx="2438640" cy="244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7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267080" y="4029120"/>
            <a:ext cx="381240" cy="396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743200" y="5325840"/>
            <a:ext cx="53352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9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93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837560" y="28317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54800" y="326556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602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65360" y="35175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182600" y="395136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611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960640" y="549864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478240" y="5932440"/>
              <a:ext cx="16812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620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865760" y="389844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383000" y="43322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629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084720" y="5649480"/>
              <a:ext cx="12096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602320" y="6083280"/>
              <a:ext cx="16812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639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45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50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655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flipV="1">
            <a:off x="1371600" y="5935320"/>
            <a:ext cx="380880" cy="168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486400" y="4106880"/>
            <a:ext cx="2057400" cy="92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62720" y="3116160"/>
            <a:ext cx="99036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1591920" y="4411440"/>
            <a:ext cx="32076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2504880" y="372564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735280" y="4343400"/>
            <a:ext cx="93024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430000" y="2971800"/>
            <a:ext cx="7779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7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7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8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572000" y="3886200"/>
            <a:ext cx="609480" cy="2286000"/>
          </a:xfrm>
          <a:custGeom>
            <a:avLst/>
            <a:gdLst>
              <a:gd name="textAreaLeft" fmla="*/ 0 w 609480"/>
              <a:gd name="textAreaRight" fmla="*/ 219960 w 6094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9248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689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9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702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706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711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716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721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 flipV="1">
            <a:off x="1371600" y="5932440"/>
            <a:ext cx="380880" cy="168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486400" y="4106880"/>
            <a:ext cx="2057400" cy="92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486400" y="3192480"/>
            <a:ext cx="99072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1591920" y="4411440"/>
            <a:ext cx="32076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504880" y="372564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735280" y="4343400"/>
            <a:ext cx="93024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430000" y="2971800"/>
            <a:ext cx="7779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734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736" name=""/>
              <p:cNvSpPr/>
              <p:nvPr/>
            </p:nvSpPr>
            <p:spPr>
              <a:xfrm flipV="1">
                <a:off x="1627200" y="329364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147680" y="364968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9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761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63" name=""/>
              <p:cNvSpPr/>
              <p:nvPr/>
            </p:nvSpPr>
            <p:spPr>
              <a:xfrm flipV="1">
                <a:off x="2770200" y="535104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2290680" y="570708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88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4751280" y="40557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272120" y="44100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3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815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817" name=""/>
              <p:cNvSpPr/>
              <p:nvPr/>
            </p:nvSpPr>
            <p:spPr>
              <a:xfrm flipV="1">
                <a:off x="6122880" y="54273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643720" y="57816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842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844" name=""/>
              <p:cNvSpPr/>
              <p:nvPr/>
            </p:nvSpPr>
            <p:spPr>
              <a:xfrm flipV="1">
                <a:off x="4751280" y="40557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4272120" y="44100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69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71" name=""/>
              <p:cNvSpPr/>
              <p:nvPr/>
            </p:nvSpPr>
            <p:spPr>
              <a:xfrm flipV="1">
                <a:off x="7570800" y="26841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7091280" y="303840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4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936720" y="574560"/>
            <a:ext cx="7772400" cy="317520"/>
            <a:chOff x="936720" y="574560"/>
            <a:chExt cx="7772400" cy="317520"/>
          </a:xfrm>
        </p:grpSpPr>
        <p:sp>
          <p:nvSpPr>
            <p:cNvPr id="898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707320" y="57456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902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07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908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913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918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 flipV="1">
            <a:off x="1371600" y="5932440"/>
            <a:ext cx="380880" cy="168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5486400" y="4103640"/>
            <a:ext cx="2057400" cy="93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486400" y="3192480"/>
            <a:ext cx="99072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1590480" y="4411440"/>
            <a:ext cx="32220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2504880" y="372240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2735280" y="4341960"/>
            <a:ext cx="93024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428560" y="2970360"/>
            <a:ext cx="77940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933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5892840" y="56304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413320" y="59864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940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945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950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1549440" y="31935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1069920" y="354960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957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62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67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843280" y="54018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363760" y="57578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74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79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84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4672080" y="38793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192560" y="423540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91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96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1001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93040" y="28872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013520" y="32432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6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102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102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103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936720" y="574560"/>
            <a:ext cx="7772400" cy="317520"/>
            <a:chOff x="936720" y="574560"/>
            <a:chExt cx="7772400" cy="317520"/>
          </a:xfrm>
        </p:grpSpPr>
        <p:sp>
          <p:nvSpPr>
            <p:cNvPr id="1035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8707320" y="57456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4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4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5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 on väga keerulised süsteemid, ja nende ühendamine tähendab nö tavapärast 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7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7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8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9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